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C7E0-722A-43FF-B3CF-1B69FA72865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59D2-15B1-412A-9214-AF435D8934D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11480" cy="3684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968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1476-4D83-4E7B-836A-0961CF60B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A6F3-281A-4CF0-9697-503F486F5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F678-6750-4404-89D4-0A2DF45F5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4789-98E5-401B-8830-1260F6938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4AAC-EF23-4565-892B-A05F336DC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C03E-FFFC-4110-B296-45CAFCCF4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C82E-CAB6-4BA2-BCBF-BB1230C01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2BB1-C3AE-46C2-9F6D-4667CB52A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C4B5-20F5-48B6-9850-ED722ABD4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BC0E-03E3-47DA-9CD2-1E12285B9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FAE4-9011-454A-9EFC-55C8F347C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C1D2-0785-490B-8B6D-5D4025795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F514B393-23E7-41CC-A402-0E88935E1CC6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91584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do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rcRect l="-3966" t="-1041" r="12340" b="49634"/>
          <a:stretch/>
        </p:blipFill>
        <p:spPr>
          <a:xfrm>
            <a:off x="7232760" y="6342120"/>
            <a:ext cx="1533240" cy="2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-3966" t="-1041" r="12340" b="49634"/>
          <a:stretch/>
        </p:blipFill>
        <p:spPr>
          <a:xfrm>
            <a:off x="7232760" y="6342120"/>
            <a:ext cx="1533240" cy="2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9960" y="-92160"/>
            <a:ext cx="73915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TA Adonis</a:t>
            </a: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	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us 13.3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4040" y="1028880"/>
            <a:ext cx="744048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DE1E-7ACB-45B3-A8EE-912D3F6896F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 </cp:lastModifiedBy>
  <cp:lastPrinted>2004-02-29T14:41:19Z</cp:lastPrinted>
  <dcterms:modified xsi:type="dcterms:W3CDTF">2005-03-16T09:31:36Z</dcterms:modified>
  <cp:revision>4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54289766</vt:r8>
  </property>
  <property fmtid="{D5CDD505-2E9C-101B-9397-08002B2CF9AE}" pid="3" name="_AuthorEmail">
    <vt:lpwstr>lars.winking@siemens.com</vt:lpwstr>
  </property>
  <property fmtid="{D5CDD505-2E9C-101B-9397-08002B2CF9AE}" pid="4" name="_AuthorEmailDisplayName">
    <vt:lpwstr>Winking Lars Com MD PBM BA PG75</vt:lpwstr>
  </property>
  <property fmtid="{D5CDD505-2E9C-101B-9397-08002B2CF9AE}" pid="5" name="_EmailSubject">
    <vt:lpwstr>MTA Update Adonis</vt:lpwstr>
  </property>
</Properties>
</file>